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1402920" y="0"/>
            <a:ext cx="36608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41880" y="0"/>
            <a:ext cx="186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00320" y="698400"/>
            <a:ext cx="261288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14680"/>
            <a:ext cx="561348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95560" y="87534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Doc Type/Month 2006/Core/Rev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77760" y="87534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69E3A1-D600-4D62-AA58-9B9D5470B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esclogo grayscale"/>
          <p:cNvPicPr/>
          <p:nvPr/>
        </p:nvPicPr>
        <p:blipFill>
          <a:blip r:embed="rId2"/>
          <a:stretch/>
        </p:blipFill>
        <p:spPr>
          <a:xfrm>
            <a:off x="0" y="0"/>
            <a:ext cx="1324080" cy="68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3895560" y="87534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Doc Type/Month 2006/Core/Rev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7760" y="87534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AA2FF6-69E4-4567-B96F-FF337E53A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2200320" y="698400"/>
            <a:ext cx="2612880" cy="34848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98040" y="4414680"/>
            <a:ext cx="561348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3895560" y="87534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Doc Type/Month 2006/Core/Rev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7760" y="87534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4365A8-766F-4B0D-8000-CCC466F20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2200320" y="698400"/>
            <a:ext cx="2612880" cy="34848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98040" y="4414680"/>
            <a:ext cx="561348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3895560" y="87534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Doc Type/Month 2006/Core/Rev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7760" y="87534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AD9DBF-29FA-4878-B773-52E5112F3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200320" y="698400"/>
            <a:ext cx="2612880" cy="34848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98040" y="4414680"/>
            <a:ext cx="561348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3895560" y="87534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Doc Type/Month 2006/Core/Rev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7760" y="87534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4C7B0A-1CF3-4B17-9F36-BBA7888FF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2200320" y="698400"/>
            <a:ext cx="2612880" cy="34848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98040" y="4414680"/>
            <a:ext cx="561348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895560" y="87534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Doc Type/Month 2006/Core/Rev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7760" y="875340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0BE7E3-FA8C-4425-ADCE-01FB5D97A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2200320" y="698400"/>
            <a:ext cx="2612880" cy="34848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98040" y="4414680"/>
            <a:ext cx="561348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5F8B-E536-483A-9D29-83892B14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73ED-67A2-448A-927E-0B097A06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B85B-6646-4C2B-9946-A7A18ED2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B0AE-9271-4704-B28E-F18BB736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7FBD-3BA1-48E4-AF23-4D987F3E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B9F0-E58B-4D62-95C4-287094D2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E176-8510-4ED9-85CC-42B97E78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AE2-1B86-497F-85FF-A2C5CCF7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271E-378C-4F14-9830-E69A6D3E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8A8-0633-414D-B798-03DC000C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3588-E024-465B-99C9-66D797FF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4B4-7508-4390-B064-6F006A9C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564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00680" y="8326440"/>
            <a:ext cx="2743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Doc Type/Month 2006/Core/Rev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5359-6BAB-4392-AFB6-7088CF156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228600" y="5318280"/>
            <a:ext cx="6477120" cy="29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Expert 1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429000" y="8915400"/>
            <a:ext cx="3657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Grade Tents SIOP/June 2010/Teach Learn-CSCO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j0158007"/>
          <p:cNvPicPr/>
          <p:nvPr/>
        </p:nvPicPr>
        <p:blipFill>
          <a:blip r:embed="rId1"/>
          <a:stretch/>
        </p:blipFill>
        <p:spPr>
          <a:xfrm>
            <a:off x="0" y="830088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j0158007"/>
          <p:cNvPicPr/>
          <p:nvPr/>
        </p:nvPicPr>
        <p:blipFill>
          <a:blip r:embed="rId2"/>
          <a:stretch/>
        </p:blipFill>
        <p:spPr>
          <a:xfrm>
            <a:off x="0" y="457200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j0158007"/>
          <p:cNvPicPr/>
          <p:nvPr/>
        </p:nvPicPr>
        <p:blipFill>
          <a:blip r:embed="rId3"/>
          <a:stretch/>
        </p:blipFill>
        <p:spPr>
          <a:xfrm>
            <a:off x="0" y="373392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j0158007"/>
          <p:cNvPicPr/>
          <p:nvPr/>
        </p:nvPicPr>
        <p:blipFill>
          <a:blip r:embed="rId4"/>
          <a:stretch/>
        </p:blipFill>
        <p:spPr>
          <a:xfrm>
            <a:off x="0" y="228600"/>
            <a:ext cx="6858000" cy="538200"/>
          </a:xfrm>
          <a:prstGeom prst="rect">
            <a:avLst/>
          </a:prstGeom>
          <a:ln w="0">
            <a:noFill/>
          </a:ln>
        </p:spPr>
      </p:pic>
      <p:sp>
        <p:nvSpPr>
          <p:cNvPr id="55" name="WordArt 13"/>
          <p:cNvSpPr txBox="1"/>
          <p:nvPr/>
        </p:nvSpPr>
        <p:spPr>
          <a:xfrm rot="10800000">
            <a:off x="380520" y="837720"/>
            <a:ext cx="6172200" cy="291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Expert 1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6" name="Text Box 6"/>
          <p:cNvSpPr/>
          <p:nvPr/>
        </p:nvSpPr>
        <p:spPr>
          <a:xfrm rot="10800000">
            <a:off x="0" y="-2880"/>
            <a:ext cx="3657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Grade Tents SIOP/June 2010/Teach Learn-CSCO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228600" y="5318280"/>
            <a:ext cx="6477120" cy="29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Expert 2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429000" y="8915400"/>
            <a:ext cx="3657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Grade Tents SIOP/June 2010/Teach Learn-CSCO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j0158007"/>
          <p:cNvPicPr/>
          <p:nvPr/>
        </p:nvPicPr>
        <p:blipFill>
          <a:blip r:embed="rId1"/>
          <a:stretch/>
        </p:blipFill>
        <p:spPr>
          <a:xfrm>
            <a:off x="0" y="830088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j0158007"/>
          <p:cNvPicPr/>
          <p:nvPr/>
        </p:nvPicPr>
        <p:blipFill>
          <a:blip r:embed="rId2"/>
          <a:stretch/>
        </p:blipFill>
        <p:spPr>
          <a:xfrm>
            <a:off x="0" y="457200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j0158007"/>
          <p:cNvPicPr/>
          <p:nvPr/>
        </p:nvPicPr>
        <p:blipFill>
          <a:blip r:embed="rId3"/>
          <a:stretch/>
        </p:blipFill>
        <p:spPr>
          <a:xfrm>
            <a:off x="0" y="373392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j0158007"/>
          <p:cNvPicPr/>
          <p:nvPr/>
        </p:nvPicPr>
        <p:blipFill>
          <a:blip r:embed="rId4"/>
          <a:stretch/>
        </p:blipFill>
        <p:spPr>
          <a:xfrm>
            <a:off x="0" y="228600"/>
            <a:ext cx="6858000" cy="5382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3"/>
          <p:cNvSpPr txBox="1"/>
          <p:nvPr/>
        </p:nvSpPr>
        <p:spPr>
          <a:xfrm rot="10800000">
            <a:off x="380520" y="837720"/>
            <a:ext cx="6172200" cy="291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Expert 2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" name="Text Box 6"/>
          <p:cNvSpPr/>
          <p:nvPr/>
        </p:nvSpPr>
        <p:spPr>
          <a:xfrm rot="10800000">
            <a:off x="0" y="-2880"/>
            <a:ext cx="3657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Grade Tents SIOP/June 2010/Teach Learn-CSCO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4"/>
          <p:cNvSpPr txBox="1"/>
          <p:nvPr/>
        </p:nvSpPr>
        <p:spPr>
          <a:xfrm>
            <a:off x="228600" y="5318280"/>
            <a:ext cx="6477120" cy="29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Expert 3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429000" y="8915400"/>
            <a:ext cx="3657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Grade Tents SIOP/June 2010/Teach Learn-CSCO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j0158007"/>
          <p:cNvPicPr/>
          <p:nvPr/>
        </p:nvPicPr>
        <p:blipFill>
          <a:blip r:embed="rId1"/>
          <a:stretch/>
        </p:blipFill>
        <p:spPr>
          <a:xfrm>
            <a:off x="0" y="830088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j0158007"/>
          <p:cNvPicPr/>
          <p:nvPr/>
        </p:nvPicPr>
        <p:blipFill>
          <a:blip r:embed="rId2"/>
          <a:stretch/>
        </p:blipFill>
        <p:spPr>
          <a:xfrm>
            <a:off x="0" y="457200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j0158007"/>
          <p:cNvPicPr/>
          <p:nvPr/>
        </p:nvPicPr>
        <p:blipFill>
          <a:blip r:embed="rId3"/>
          <a:stretch/>
        </p:blipFill>
        <p:spPr>
          <a:xfrm>
            <a:off x="0" y="373392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j0158007"/>
          <p:cNvPicPr/>
          <p:nvPr/>
        </p:nvPicPr>
        <p:blipFill>
          <a:blip r:embed="rId4"/>
          <a:stretch/>
        </p:blipFill>
        <p:spPr>
          <a:xfrm>
            <a:off x="0" y="228600"/>
            <a:ext cx="6858000" cy="538200"/>
          </a:xfrm>
          <a:prstGeom prst="rect">
            <a:avLst/>
          </a:prstGeom>
          <a:ln w="0">
            <a:noFill/>
          </a:ln>
        </p:spPr>
      </p:pic>
      <p:sp>
        <p:nvSpPr>
          <p:cNvPr id="71" name="WordArt 13"/>
          <p:cNvSpPr txBox="1"/>
          <p:nvPr/>
        </p:nvSpPr>
        <p:spPr>
          <a:xfrm rot="10800000">
            <a:off x="380520" y="837720"/>
            <a:ext cx="6172200" cy="291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Expert 3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2" name="Text Box 6"/>
          <p:cNvSpPr/>
          <p:nvPr/>
        </p:nvSpPr>
        <p:spPr>
          <a:xfrm rot="10800000">
            <a:off x="0" y="-2880"/>
            <a:ext cx="3657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Grade Tents SIOP/June 2010/Teach Learn-CSCO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228600" y="5318280"/>
            <a:ext cx="6477120" cy="29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Expert 4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429000" y="8915400"/>
            <a:ext cx="3657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Grade Tents SIOP/June 2010/Teach Learn-CSCO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j0158007"/>
          <p:cNvPicPr/>
          <p:nvPr/>
        </p:nvPicPr>
        <p:blipFill>
          <a:blip r:embed="rId1"/>
          <a:stretch/>
        </p:blipFill>
        <p:spPr>
          <a:xfrm>
            <a:off x="0" y="830088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j0158007"/>
          <p:cNvPicPr/>
          <p:nvPr/>
        </p:nvPicPr>
        <p:blipFill>
          <a:blip r:embed="rId2"/>
          <a:stretch/>
        </p:blipFill>
        <p:spPr>
          <a:xfrm>
            <a:off x="0" y="457200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j0158007"/>
          <p:cNvPicPr/>
          <p:nvPr/>
        </p:nvPicPr>
        <p:blipFill>
          <a:blip r:embed="rId3"/>
          <a:stretch/>
        </p:blipFill>
        <p:spPr>
          <a:xfrm>
            <a:off x="0" y="373392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j0158007"/>
          <p:cNvPicPr/>
          <p:nvPr/>
        </p:nvPicPr>
        <p:blipFill>
          <a:blip r:embed="rId4"/>
          <a:stretch/>
        </p:blipFill>
        <p:spPr>
          <a:xfrm>
            <a:off x="0" y="228600"/>
            <a:ext cx="6858000" cy="538200"/>
          </a:xfrm>
          <a:prstGeom prst="rect">
            <a:avLst/>
          </a:prstGeom>
          <a:ln w="0">
            <a:noFill/>
          </a:ln>
        </p:spPr>
      </p:pic>
      <p:sp>
        <p:nvSpPr>
          <p:cNvPr id="79" name="WordArt 13"/>
          <p:cNvSpPr txBox="1"/>
          <p:nvPr/>
        </p:nvSpPr>
        <p:spPr>
          <a:xfrm rot="10800000">
            <a:off x="380520" y="837720"/>
            <a:ext cx="6172200" cy="291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Expert 4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0" name="Text Box 6"/>
          <p:cNvSpPr/>
          <p:nvPr/>
        </p:nvSpPr>
        <p:spPr>
          <a:xfrm rot="10800000">
            <a:off x="0" y="-2880"/>
            <a:ext cx="3657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Grade Tents SIOP/June 2010/Teach Learn-CSCO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228600" y="5318280"/>
            <a:ext cx="6477120" cy="29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Expert 5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429000" y="8915400"/>
            <a:ext cx="3657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Grade Tents SIOP/June 2010/Teach Learn-CSCO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j0158007"/>
          <p:cNvPicPr/>
          <p:nvPr/>
        </p:nvPicPr>
        <p:blipFill>
          <a:blip r:embed="rId1"/>
          <a:stretch/>
        </p:blipFill>
        <p:spPr>
          <a:xfrm>
            <a:off x="0" y="830088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j0158007"/>
          <p:cNvPicPr/>
          <p:nvPr/>
        </p:nvPicPr>
        <p:blipFill>
          <a:blip r:embed="rId2"/>
          <a:stretch/>
        </p:blipFill>
        <p:spPr>
          <a:xfrm>
            <a:off x="0" y="457200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j0158007"/>
          <p:cNvPicPr/>
          <p:nvPr/>
        </p:nvPicPr>
        <p:blipFill>
          <a:blip r:embed="rId3"/>
          <a:stretch/>
        </p:blipFill>
        <p:spPr>
          <a:xfrm>
            <a:off x="0" y="3733920"/>
            <a:ext cx="6858000" cy="538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j0158007"/>
          <p:cNvPicPr/>
          <p:nvPr/>
        </p:nvPicPr>
        <p:blipFill>
          <a:blip r:embed="rId4"/>
          <a:stretch/>
        </p:blipFill>
        <p:spPr>
          <a:xfrm>
            <a:off x="0" y="228600"/>
            <a:ext cx="6858000" cy="538200"/>
          </a:xfrm>
          <a:prstGeom prst="rect">
            <a:avLst/>
          </a:prstGeom>
          <a:ln w="0">
            <a:noFill/>
          </a:ln>
        </p:spPr>
      </p:pic>
      <p:sp>
        <p:nvSpPr>
          <p:cNvPr id="87" name="WordArt 13"/>
          <p:cNvSpPr txBox="1"/>
          <p:nvPr/>
        </p:nvSpPr>
        <p:spPr>
          <a:xfrm rot="10800000">
            <a:off x="380520" y="837720"/>
            <a:ext cx="6172200" cy="291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Expert 5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8" name="Text Box 6"/>
          <p:cNvSpPr/>
          <p:nvPr/>
        </p:nvSpPr>
        <p:spPr>
          <a:xfrm rot="10800000">
            <a:off x="0" y="-2880"/>
            <a:ext cx="3657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ESC 12/Grade Tents SIOP/June 2010/Teach Learn-CSCO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9:59:20Z</dcterms:created>
  <dc:creator>Jenny Dixon</dc:creator>
  <dc:description/>
  <dc:language>en-US</dc:language>
  <cp:lastModifiedBy>Kristin Arterbury</cp:lastModifiedBy>
  <cp:lastPrinted>2013-02-26T12:13:46Z</cp:lastPrinted>
  <dcterms:modified xsi:type="dcterms:W3CDTF">2013-08-14T21:17:06Z</dcterms:modified>
  <cp:revision>9</cp:revision>
  <dc:subject/>
  <dc:title>Slide 1</dc:title>
</cp:coreProperties>
</file>